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73CF-F444-4813-AC8B-65CB15D5A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82A6-D176-4906-AE0B-97B6F3F2A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A6F6-BD36-473B-9886-7668F496D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6ED6-AA0B-487C-8917-4B022CAD1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04487-5DCB-4DFD-86CF-8BABD9193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BD222-66CB-4B9A-843D-0F4822CF8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24FA1-BE5C-4243-BF4B-CC70705A6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873CF-210A-4F43-B50D-05BAB1BF2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745FB-3E7A-45BB-82AE-39B6FC062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10B2E-0AE6-422D-B047-7BB30D241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37A37-BF7C-4785-B320-99EDAD7F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5287-DB6F-43B0-94E7-4AF6E51E3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B3B03-2B06-425E-A469-3319CC62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23415-EFCE-409D-BC63-2236EFBA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B0FFF-8823-466F-889F-95AC58474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D5272-415D-4B08-A05E-91CA3B4F2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0DBC9-52A5-4517-97EF-BEBE457BE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49DB-205A-49C3-9C53-D65220B4E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4B99-3A81-4653-9984-66E438A01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FAFD-A51B-4569-A52A-69A6F2803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A7C4-1AB2-4A0F-AF60-287153783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88B5-AE63-44BF-817C-6053617B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384A-9F36-48AA-AFA6-2C9A5B0B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A00D-BC7C-46BD-9B80-99B3B64F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E16B9-6F19-4706-8A80-9F77A687F8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8D098-F5A4-423F-B01F-AE04BD97D2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905120" y="0"/>
            <a:ext cx="5699160" cy="75978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Intertwining Literacy Into The Mathematical Rope of Education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am Sar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ctober 7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201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hem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hancing the math classroom by using literacy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 math education was a rope, one would want the rope that is triple braided (math, reading, and writing) over the rope that is single braided (just math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(Shatzer, 2008)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ing can create that visualization that the student needed in order to understand m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oosing books to be used as math enhanceme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extension activities from books connecting literature to m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(Rutherford-Becker, Vanderwood, 2009)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relationship between literacy and m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ing comprehension is highly correlated with math 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th tests measure both math skills and reading comprehension ski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(Verlaan, 2009)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ing writing as a teaching strategy for mat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phic Organiz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of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ing reinforces rules and steps in m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ing can also build one’s confid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28240" y="1447560"/>
            <a:ext cx="8534520" cy="5181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Times New Roman"/>
              </a:rPr>
              <a:t>Blank Graphic Organizer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ule: ___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Times New Roman"/>
              </a:rPr>
              <a:t>(from the notes and lectures)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______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omework Problem:____________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ule/Step:____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Times New Roman"/>
              </a:rPr>
              <a:t>(from the rules, from the notes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____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write/solve Problem:____________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_________________________________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ule/Step:____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Times New Roman"/>
              </a:rPr>
              <a:t>(from the rules, from the notes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____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write/solve Problem:____________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_________________________________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ule/Step:____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Times New Roman"/>
              </a:rPr>
              <a:t>(from the rules, from the notes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____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write/solve Problem:____________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_________________________________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Times New Roman"/>
              </a:rPr>
              <a:t>Homework Example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ule: ___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Times New Roman"/>
              </a:rPr>
              <a:t>Subtracting numbers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omework Problem: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-(-5)__________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ule/Step:___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Times New Roman"/>
              </a:rPr>
              <a:t>To subtract -5, add its opposite, + 5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write/solve Problem:_4+ (+5)_____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_________________________________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ule/Step:____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Times New Roman"/>
              </a:rPr>
              <a:t>Adding numbers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Rewrite/solve Problem:__4 +(+5) ____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_________________________________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ule/Step:____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Times New Roman"/>
              </a:rPr>
              <a:t>to add numbers with same sign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        Rewrite/solve Problem:__|4|+|5|=____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___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Times New Roman"/>
              </a:rPr>
              <a:t>add their absolute valu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___________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ule/Step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Times New Roman"/>
              </a:rPr>
              <a:t>Use the sign of the numbers in answer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__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write/solve Problem: ____9________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_________________________________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43000" y="3049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phic Organiz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3505320"/>
            <a:ext cx="83818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Important Ideas Learned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	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ing and writing are both vital to one’s ability to understand and do mat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writing in proofs, graphic organizers, and justifying one’s answers are good mnemonic devices, or ways of remembering concep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helps to reinforce the ideas and concep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onclus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though I am a math teacher and love math, I have found out that reading is the most important subject are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ding is important in everyday life and is important to every subject or intere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out reading, it would be very hard to learn in any subjec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15:44:55Z</dcterms:created>
  <dc:creator> Angela Lauver</dc:creator>
  <dc:description/>
  <dc:language>en-US</dc:language>
  <cp:lastModifiedBy> Angela Lauver</cp:lastModifiedBy>
  <dcterms:modified xsi:type="dcterms:W3CDTF">2010-10-12T00:54:40Z</dcterms:modified>
  <cp:revision>3</cp:revision>
  <dc:subject/>
  <dc:title>Intertwining Literacy Into The Mathematical Rope of Education</dc:title>
</cp:coreProperties>
</file>